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100-71D1-4505-9108-C41A5FF9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0ED-983E-486E-AA8E-ACDE404C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A57-A6BB-424B-BD28-228B58C2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FA5-88F9-4AC6-9ACA-AAD6B7C6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902D-EFEC-468A-8D5B-D0F95B83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3F15-4841-45BD-BD02-FC136C43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F2C7-7A21-44A5-8502-E5BF81E5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A73C-D777-431A-9185-13FC5259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C8D4-837B-4A0C-892B-256ABBFF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D6EE-2DA4-4461-BADE-04946784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032D-90F1-46B5-9882-A982A53B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8B5-25E3-4E64-84BC-77BBEC0E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5E61-0F42-429C-89FA-11BD7328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75C2-9A33-4B65-8085-010D9FAD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1F31-3119-4F88-B5D1-C2F74108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584C-E3DC-4F85-B1D4-9742C9BD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5F2C-3870-48CE-8B64-E1ACB6D8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65CA2-2CA0-4AE6-9706-15635224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FF6B2-67C7-4A5E-90DE-E35C4C34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E19B8-77CA-4B5F-8A66-811130D1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71FB8-FD3E-41DF-96F5-8E5C72B3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9E327-E25A-4339-8D86-843EAA87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F6D-49AB-47C4-9777-F3BE68F1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0FB6-72E3-44DD-A916-96F85C41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DB3B7-0E08-4AAA-9A52-E90E037A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8371B-4E41-4519-B194-66187305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70722-73E1-4ADC-8507-3F9E5605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54F1B-3CF1-445F-8567-736A9553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1B00F-A283-4E4B-A473-259D849A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B2D0-484B-4F85-BBD8-4F105E0A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06856-850F-46F8-BEAE-E5404B09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1A903-1B3A-42BA-8AAA-03D4FA79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925DC-4487-4DA5-A015-34CEFA22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316-B66C-41C4-AD42-AC0D6D7C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041E5-9E29-41B7-8F85-04CEF7CD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A9980-4A9F-4E8C-BCB2-60C87A40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74E7D-9AEA-470F-830E-AA2DDD7A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FE329-BBCC-4774-84C5-6B8A89A5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15370-7D8D-4A56-BC58-AB5ECDE0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0AE10-ABC5-4CD4-85CE-1583A902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903E6-9E62-4313-B44A-1162BF34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6369D-206E-4CCF-8E97-3FC1178F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F51E5-7174-4D02-A12A-51A83995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A2948-9D07-4861-8EAB-046284C8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763-559E-463A-92A9-3C5FE17E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52152-4A7C-4080-93A2-A5ADC6C9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4D5E1-1D4A-4174-8CB5-E884979F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F1CC5-4265-42E7-8A35-E4683175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23B08-8069-4089-81F7-5506EA72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E203E-D576-43A2-AD5C-A901970F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46510-E5B1-4AB8-85ED-466FAF1F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A0861-15EE-402F-9F25-10DA1EF7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4D65F-BF3E-44AB-9A7C-A5AD294E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5AF4C-0301-4C97-B65A-507E4979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ED617-AAD2-4040-B36B-CE022118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A2C-2FBE-43B8-89BA-E895ABF9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EB9E3-B6E2-4069-815D-096B684B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6C3-50A2-41B4-87CB-DAFB3B1C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9E7-F574-4B98-8F96-BD0DC498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41D-30A3-4854-A6B8-CAFCF175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68AC-A4A5-4D9C-842C-12D8EFABD6D4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1FA7-108C-449F-9E39-A820CEE530C0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C066-D8F3-43D0-876A-466F4170EBB1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B889-58EA-4C6B-9061-C34CCEDDB9A4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67C4-79DE-4798-B100-A5C60BA84F41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437316/student_view0/chapter12/animations.html" TargetMode="External"/><Relationship Id="rId2" Type="http://schemas.openxmlformats.org/officeDocument/2006/relationships/hyperlink" Target="http://highered.mcgraw-hill.com/sites/0072437316/student_view0/chapter12/animations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visual.com/index.php/Image:Cell_cycle.pn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4920" y="1700280"/>
            <a:ext cx="8472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ff"/>
                </a:solidFill>
                <a:latin typeface="Arial"/>
                <a:ea typeface="Arial"/>
              </a:rPr>
              <a:t>Ћелијске деобе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Митоз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деоба телесних ћелиј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Мејоз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 деоба герминативних ћелиј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Телофаз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762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и се хидратишу и деспирализуј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стају нити деобног врет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ира се нуклеолус и једрова мембра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упа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цитокинез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 јавља се деобна бразада која дели мајку ћелију на 2 ћерке ћелије са идентичним генетичким материјал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7" name="Picture 8" descr="WhiteFishMitosis[4]"/>
          <p:cNvPicPr/>
          <p:nvPr/>
        </p:nvPicPr>
        <p:blipFill>
          <a:blip r:embed="rId1"/>
          <a:stretch/>
        </p:blipFill>
        <p:spPr>
          <a:xfrm>
            <a:off x="4724280" y="1752480"/>
            <a:ext cx="4419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mitosis1"/>
          <p:cNvPicPr/>
          <p:nvPr/>
        </p:nvPicPr>
        <p:blipFill>
          <a:blip r:embed="rId1"/>
          <a:stretch/>
        </p:blipFill>
        <p:spPr>
          <a:xfrm>
            <a:off x="468360" y="255600"/>
            <a:ext cx="3390840" cy="660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9" name="Picture 7" descr="Go to fullsize image"/>
          <p:cNvPicPr/>
          <p:nvPr/>
        </p:nvPicPr>
        <p:blipFill>
          <a:blip r:embed="rId2"/>
          <a:stretch/>
        </p:blipFill>
        <p:spPr>
          <a:xfrm>
            <a:off x="3924360" y="2349360"/>
            <a:ext cx="4862520" cy="39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0" name="Rectangle 4"/>
          <p:cNvSpPr/>
          <p:nvPr/>
        </p:nvSpPr>
        <p:spPr>
          <a:xfrm>
            <a:off x="4427640" y="476280"/>
            <a:ext cx="360036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Митоза у биљној (лево) и животињској (десно) ћелиј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Ендоредупликација 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(поремећај митозе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рем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ј митозе у коме се генет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чки материјал дуплицирао али се није поделила цитоплазм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 ћелији се налази удвостручен број хромозома. Појава се зове ЕНДОРЕДУПЛИКАЦИЈ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   а резултат су ПОЛ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ЛОИДН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ћелиј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МЕЈО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9640" y="2492280"/>
            <a:ext cx="822960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оба којом се образују полне ћелије назива се мејо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 диплоидна ћелија се подели два пута при чему настају четири хаплоидне ћелије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и се на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м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ејозу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 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мејозу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РВА МЕЈОТИЧКА ДЕОБ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РЕДУКЦИОНА ДЕОБ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23640" y="1988640"/>
            <a:ext cx="85071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етходи јој дуга и интензивна интерфаз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ејоз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 д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ели  н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Профазу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лептот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зигот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ахит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диплот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дијакинези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Метафазу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Анафазу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Телофазу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Prophase%25201"/>
          <p:cNvPicPr/>
          <p:nvPr/>
        </p:nvPicPr>
        <p:blipFill>
          <a:blip r:embed="rId1"/>
          <a:srcRect l="0" t="0" r="0" b="4289"/>
          <a:stretch/>
        </p:blipFill>
        <p:spPr>
          <a:xfrm>
            <a:off x="1071720" y="1500120"/>
            <a:ext cx="7115040" cy="439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РОФАЗА ПРВЕ МЕЈОТИЧКЕ ДЕОБ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1547640" y="3357720"/>
            <a:ext cx="1351080" cy="337320"/>
          </a:xfrm>
          <a:prstGeom prst="rect">
            <a:avLst/>
          </a:prstGeom>
          <a:solidFill>
            <a:srgbClr val="59aaf2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 Black"/>
              </a:rPr>
              <a:t>Лептоте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3780000" y="3357720"/>
            <a:ext cx="1277640" cy="337320"/>
          </a:xfrm>
          <a:prstGeom prst="rect">
            <a:avLst/>
          </a:prstGeom>
          <a:solidFill>
            <a:srgbClr val="59aaf2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 Black"/>
              </a:rPr>
              <a:t>Зиготе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6227640" y="3357720"/>
            <a:ext cx="1440000" cy="337320"/>
          </a:xfrm>
          <a:prstGeom prst="rect">
            <a:avLst/>
          </a:prstGeom>
          <a:solidFill>
            <a:srgbClr val="59aaf2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 Black"/>
              </a:rPr>
              <a:t>Пахите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1403280" y="5589720"/>
            <a:ext cx="1422360" cy="337320"/>
          </a:xfrm>
          <a:prstGeom prst="rect">
            <a:avLst/>
          </a:prstGeom>
          <a:solidFill>
            <a:srgbClr val="59aaf2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 Black"/>
              </a:rPr>
              <a:t>Диплоте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3635280" y="5589720"/>
            <a:ext cx="1728720" cy="337320"/>
          </a:xfrm>
          <a:prstGeom prst="rect">
            <a:avLst/>
          </a:prstGeom>
          <a:solidFill>
            <a:srgbClr val="59aaf2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 Black"/>
              </a:rPr>
              <a:t>Дијакинези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6012000" y="5589720"/>
            <a:ext cx="1584360" cy="337320"/>
          </a:xfrm>
          <a:prstGeom prst="rect">
            <a:avLst/>
          </a:prstGeom>
          <a:solidFill>
            <a:srgbClr val="59aaf2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 Black"/>
              </a:rPr>
              <a:t>Метафаза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I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7596360" y="2060640"/>
            <a:ext cx="990360" cy="246240"/>
          </a:xfrm>
          <a:prstGeom prst="rect">
            <a:avLst/>
          </a:prstGeom>
          <a:solidFill>
            <a:srgbClr val="59aaf2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ff"/>
                </a:solidFill>
                <a:latin typeface="Arial Black"/>
              </a:rPr>
              <a:t>Тетраде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2987640" y="1590840"/>
            <a:ext cx="1297080" cy="246240"/>
          </a:xfrm>
          <a:prstGeom prst="rect">
            <a:avLst/>
          </a:prstGeom>
          <a:solidFill>
            <a:srgbClr val="59aaf2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ff"/>
                </a:solidFill>
                <a:latin typeface="Arial Black"/>
              </a:rPr>
              <a:t>Центромера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5076720" y="3103560"/>
            <a:ext cx="1150920" cy="246240"/>
          </a:xfrm>
          <a:prstGeom prst="rect">
            <a:avLst/>
          </a:prstGeom>
          <a:solidFill>
            <a:srgbClr val="59aaf2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ff"/>
                </a:solidFill>
                <a:latin typeface="Arial Black"/>
              </a:rPr>
              <a:t>Синапсис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611280" y="4292640"/>
            <a:ext cx="990360" cy="246240"/>
          </a:xfrm>
          <a:prstGeom prst="rect">
            <a:avLst/>
          </a:prstGeom>
          <a:solidFill>
            <a:srgbClr val="59aaf2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ff"/>
                </a:solidFill>
                <a:latin typeface="Arial Black"/>
              </a:rPr>
              <a:t>Хијазма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3628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ДРУГА МЕЈОТИЧКА ДЕОБ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411280" y="2781000"/>
            <a:ext cx="382752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ПРОФАЗА 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МЕТАФАЗА 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АНАФАЗА 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ТЕЛОФАЗА  I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5" descr="meiosis"/>
          <p:cNvPicPr/>
          <p:nvPr/>
        </p:nvPicPr>
        <p:blipFill>
          <a:blip r:embed="rId1"/>
          <a:stretch/>
        </p:blipFill>
        <p:spPr>
          <a:xfrm>
            <a:off x="318960" y="692280"/>
            <a:ext cx="8825040" cy="594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3" name="Text Box 6"/>
          <p:cNvSpPr/>
          <p:nvPr/>
        </p:nvSpPr>
        <p:spPr>
          <a:xfrm>
            <a:off x="2843280" y="1052640"/>
            <a:ext cx="990360" cy="246240"/>
          </a:xfrm>
          <a:prstGeom prst="rect">
            <a:avLst/>
          </a:prstGeom>
          <a:solidFill>
            <a:srgbClr val="cafbed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cc0066"/>
                </a:solidFill>
                <a:latin typeface="Arial Black"/>
              </a:rPr>
              <a:t>Профаза</a:t>
            </a:r>
            <a:r>
              <a:rPr b="0" lang="en-US" sz="1000" spc="-1" strike="noStrike">
                <a:solidFill>
                  <a:srgbClr val="cc0066"/>
                </a:solidFill>
                <a:latin typeface="Arial Black"/>
              </a:rPr>
              <a:t> I</a:t>
            </a:r>
            <a:r>
              <a:rPr b="0" lang="sr-CS" sz="1000" spc="-1" strike="noStrike">
                <a:solidFill>
                  <a:srgbClr val="cc0066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4211640" y="1052640"/>
            <a:ext cx="1135080" cy="246240"/>
          </a:xfrm>
          <a:prstGeom prst="rect">
            <a:avLst/>
          </a:prstGeom>
          <a:solidFill>
            <a:srgbClr val="cafbed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cc0066"/>
                </a:solidFill>
                <a:latin typeface="Arial Black"/>
              </a:rPr>
              <a:t>Метафаза</a:t>
            </a:r>
            <a:r>
              <a:rPr b="0" lang="en-US" sz="1000" spc="-1" strike="noStrike">
                <a:solidFill>
                  <a:srgbClr val="cc0066"/>
                </a:solidFill>
                <a:latin typeface="Arial Black"/>
              </a:rPr>
              <a:t> 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6084720" y="1052640"/>
            <a:ext cx="990720" cy="246240"/>
          </a:xfrm>
          <a:prstGeom prst="rect">
            <a:avLst/>
          </a:prstGeom>
          <a:solidFill>
            <a:srgbClr val="cafbed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cc0066"/>
                </a:solidFill>
                <a:latin typeface="Arial Black"/>
              </a:rPr>
              <a:t>Анафаза</a:t>
            </a:r>
            <a:r>
              <a:rPr b="0" lang="en-US" sz="1000" spc="-1" strike="noStrike">
                <a:solidFill>
                  <a:srgbClr val="cc0066"/>
                </a:solidFill>
                <a:latin typeface="Arial Black"/>
              </a:rPr>
              <a:t> 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7667640" y="1125360"/>
            <a:ext cx="1225440" cy="246240"/>
          </a:xfrm>
          <a:prstGeom prst="rect">
            <a:avLst/>
          </a:prstGeom>
          <a:solidFill>
            <a:srgbClr val="cafbed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cc0066"/>
                </a:solidFill>
                <a:latin typeface="Arial Black"/>
              </a:rPr>
              <a:t>Телофаза</a:t>
            </a:r>
            <a:r>
              <a:rPr b="0" lang="en-US" sz="1000" spc="-1" strike="noStrike">
                <a:solidFill>
                  <a:srgbClr val="cc0066"/>
                </a:solidFill>
                <a:latin typeface="Arial Black"/>
              </a:rPr>
              <a:t> 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7812000" y="6021360"/>
            <a:ext cx="990720" cy="246240"/>
          </a:xfrm>
          <a:prstGeom prst="rect">
            <a:avLst/>
          </a:prstGeom>
          <a:solidFill>
            <a:srgbClr val="cafbed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cc0066"/>
                </a:solidFill>
                <a:latin typeface="Arial Black"/>
              </a:rPr>
              <a:t>Профаза</a:t>
            </a:r>
            <a:r>
              <a:rPr b="0" lang="en-US" sz="1000" spc="-1" strike="noStrike">
                <a:solidFill>
                  <a:srgbClr val="cc0066"/>
                </a:solidFill>
                <a:latin typeface="Arial Black"/>
              </a:rPr>
              <a:t> I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084720" y="6021360"/>
            <a:ext cx="990720" cy="246240"/>
          </a:xfrm>
          <a:prstGeom prst="rect">
            <a:avLst/>
          </a:prstGeom>
          <a:solidFill>
            <a:srgbClr val="cafbed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cc0066"/>
                </a:solidFill>
                <a:latin typeface="Arial Black"/>
              </a:rPr>
              <a:t>Метафаза</a:t>
            </a:r>
            <a:r>
              <a:rPr b="0" lang="en-US" sz="1000" spc="-1" strike="noStrike">
                <a:solidFill>
                  <a:srgbClr val="cc0066"/>
                </a:solidFill>
                <a:latin typeface="Arial Black"/>
              </a:rPr>
              <a:t> I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427640" y="6021360"/>
            <a:ext cx="990360" cy="246240"/>
          </a:xfrm>
          <a:prstGeom prst="rect">
            <a:avLst/>
          </a:prstGeom>
          <a:solidFill>
            <a:srgbClr val="cafbed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cc0066"/>
                </a:solidFill>
                <a:latin typeface="Arial Black"/>
              </a:rPr>
              <a:t>Анафаза</a:t>
            </a:r>
            <a:r>
              <a:rPr b="0" lang="en-US" sz="1000" spc="-1" strike="noStrike">
                <a:solidFill>
                  <a:srgbClr val="cc0066"/>
                </a:solidFill>
                <a:latin typeface="Arial Black"/>
              </a:rPr>
              <a:t> I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2700360" y="6093000"/>
            <a:ext cx="990720" cy="246240"/>
          </a:xfrm>
          <a:prstGeom prst="rect">
            <a:avLst/>
          </a:prstGeom>
          <a:solidFill>
            <a:srgbClr val="cafbed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cc0066"/>
                </a:solidFill>
                <a:latin typeface="Arial Black"/>
              </a:rPr>
              <a:t>Телофаза</a:t>
            </a:r>
            <a:r>
              <a:rPr b="0" lang="en-US" sz="1000" spc="-1" strike="noStrike">
                <a:solidFill>
                  <a:srgbClr val="cc0066"/>
                </a:solidFill>
                <a:latin typeface="Arial Black"/>
              </a:rPr>
              <a:t> I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6021360"/>
            <a:ext cx="1135080" cy="246240"/>
          </a:xfrm>
          <a:prstGeom prst="rect">
            <a:avLst/>
          </a:prstGeom>
          <a:solidFill>
            <a:srgbClr val="cafbed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cc0066"/>
                </a:solidFill>
                <a:latin typeface="Arial Black"/>
              </a:rPr>
              <a:t>цитокинеза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684360" y="1052640"/>
            <a:ext cx="1133280" cy="246240"/>
          </a:xfrm>
          <a:prstGeom prst="rect">
            <a:avLst/>
          </a:prstGeom>
          <a:solidFill>
            <a:srgbClr val="cafbed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cc0066"/>
                </a:solidFill>
                <a:latin typeface="Arial Black"/>
              </a:rPr>
              <a:t>Интерфаза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5219640" y="765000"/>
            <a:ext cx="990720" cy="246240"/>
          </a:xfrm>
          <a:prstGeom prst="rect">
            <a:avLst/>
          </a:prstGeom>
          <a:solidFill>
            <a:srgbClr val="cafbed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cc0066"/>
                </a:solidFill>
                <a:latin typeface="Arial Black"/>
              </a:rPr>
              <a:t>Мејоза</a:t>
            </a:r>
            <a:r>
              <a:rPr b="0" lang="en-US" sz="1000" spc="-1" strike="noStrike">
                <a:solidFill>
                  <a:srgbClr val="cc0066"/>
                </a:solidFill>
                <a:latin typeface="Arial Black"/>
              </a:rPr>
              <a:t> 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5148360" y="6381720"/>
            <a:ext cx="990360" cy="246240"/>
          </a:xfrm>
          <a:prstGeom prst="rect">
            <a:avLst/>
          </a:prstGeom>
          <a:solidFill>
            <a:srgbClr val="cafbed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cc0066"/>
                </a:solidFill>
                <a:latin typeface="Arial Black"/>
              </a:rPr>
              <a:t>Мејоза</a:t>
            </a:r>
            <a:r>
              <a:rPr b="0" lang="en-US" sz="1000" spc="-1" strike="noStrike">
                <a:solidFill>
                  <a:srgbClr val="cc0066"/>
                </a:solidFill>
                <a:latin typeface="Arial Black"/>
              </a:rPr>
              <a:t> I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935000"/>
            <a:ext cx="8229600" cy="221472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s://www.youtube.com/watch?v=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5kVVaRcEI1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ито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95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66640" indent="-566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лога митоз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66640" indent="-5666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Размножавају се једноћелијски организ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66640" indent="-5666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Деле се телесне ћелије вишећел. организа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66640" indent="-5666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Зарастају ран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66640" indent="-5666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Регенеришу се тки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66640" indent="-566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66640" indent="-566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бухвата деобу једр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кариокинезу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и деобу цитоплазм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цитокинезу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66640" indent="-566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ЋЕЛИЈСКИ ЦИКЛУ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50920" y="2852280"/>
            <a:ext cx="403848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бухвата период припреме ћелије за деобу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интерфазу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и саму деобу ћелије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митозу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6" descr="The cell cyc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89000"/>
            <a:ext cx="4572000" cy="436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Интерфаз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7128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нтерфаза је период припреме и налази се између две митоз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Најдужи период у ћелијском циклусу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3 живота ћелиј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дликује се изузетном метаболичком активношћ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и су деспирализовани и хидратисани и распоређени у виду мреж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хроматинска мреж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хромат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Интерфаз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G1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фаз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: продукција молеку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РНК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анскрип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и синтеза ензима неопходних за процес репликациј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S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фаз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: репликациј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K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и продукција хистона (протеини који улазе у састав хромозома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G2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фаз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: уграђивање хистона у хромозоме и продукција протеина који улазе у грађу деобног врете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Go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фаз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: фаза мировања - између М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1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фаз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701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Arial"/>
                <a:ea typeface="Arial"/>
              </a:rPr>
              <a:t>Митоза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офаза, метафаза, анафаза, телофаза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3" descr="mitoza"/>
          <p:cNvPicPr/>
          <p:nvPr/>
        </p:nvPicPr>
        <p:blipFill>
          <a:blip r:embed="rId1"/>
          <a:stretch/>
        </p:blipFill>
        <p:spPr>
          <a:xfrm>
            <a:off x="1755720" y="1989000"/>
            <a:ext cx="5334120" cy="465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Профаз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457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и се дехидратишу, спирализују и скараћуј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шчезава нуклеолу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рова мембрана се фрагментише и једров материјал се меша са садржајем цитоплазм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7" descr="WhiteFishMitosis[1]"/>
          <p:cNvPicPr/>
          <p:nvPr/>
        </p:nvPicPr>
        <p:blipFill>
          <a:blip r:embed="rId1"/>
          <a:stretch/>
        </p:blipFill>
        <p:spPr>
          <a:xfrm>
            <a:off x="4915080" y="2560680"/>
            <a:ext cx="36954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Метафаз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77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краћа фаза, хромозоми су јако скраћени и на средини су деобног вретена, чинећи екваторијалну плоч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овом стадијуму се врши цитогенетска анализа кариоти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мултана деоба центроме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6" descr="mitoza animalne2"/>
          <p:cNvPicPr/>
          <p:nvPr/>
        </p:nvPicPr>
        <p:blipFill>
          <a:blip r:embed="rId1"/>
          <a:stretch/>
        </p:blipFill>
        <p:spPr>
          <a:xfrm>
            <a:off x="5219640" y="2205000"/>
            <a:ext cx="36957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  <a:ea typeface="Arial"/>
              </a:rPr>
              <a:t>Анафаз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матиде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м центромере крећу ка супротним половима. Центромером се хром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 повезују за нити деобног врете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тање се обавља скраћивањем нити деобног врет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хроматиде стигну на супротне полове настаје телоф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9" descr="WhiteFishMitosis[3]"/>
          <p:cNvPicPr/>
          <p:nvPr/>
        </p:nvPicPr>
        <p:blipFill>
          <a:blip r:embed="rId1"/>
          <a:stretch/>
        </p:blipFill>
        <p:spPr>
          <a:xfrm>
            <a:off x="4857840" y="1752480"/>
            <a:ext cx="4286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7:51:22Z</dcterms:created>
  <dc:creator>User</dc:creator>
  <dc:description/>
  <dc:language>en-US</dc:language>
  <cp:lastModifiedBy>Microsoft Office User</cp:lastModifiedBy>
  <dcterms:modified xsi:type="dcterms:W3CDTF">2021-01-22T19:37:15Z</dcterms:modified>
  <cp:revision>53</cp:revision>
  <dc:subject/>
  <dc:title>Reprodukcija ćelija</dc:title>
</cp:coreProperties>
</file>