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8ED-A729-47FD-87A0-C3779540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E14-0005-4775-8304-3E916939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2FA-0505-4069-96F7-A92E2DF7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AE9-E10C-4284-B194-E610A402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E8C8-F87E-479C-8BAF-D9D20936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03EE-E9FC-4713-8045-0E1FC526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BB20-B6E1-43B0-8B3C-77C94657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B381-E538-4D68-A74D-621EB471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D97C-8790-4D41-AAAE-685A363B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284C-5C65-42C2-B3D7-2EF87DD2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5F39-40AB-4106-93DC-0D07B869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709-B95F-47EF-BA5A-3DACFB9B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C19E-A0BB-4D8F-8544-E8744B6C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F5B8-7F93-42BB-873B-58B9FB5B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D36C-1A34-45A7-A076-4E213B8A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49E3-CFF6-4100-9118-A9A344D5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2028-196C-4640-B750-E18AA98C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9B753-8F96-4BA7-98DF-7EC8516C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63AE-996D-4B3A-B2E5-345579E7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0EE5-4F3C-4188-AB05-5D096BE1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9E42-9407-4B13-B401-87995F2C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1396F-7B20-4DCD-99F1-C9243FB4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B59-7DAC-43AE-B190-ED084C50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9728D-1D52-4EA0-8670-C5A480AD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04E0-FB04-4413-8822-54F0F40B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06DE-7FD5-4E32-BD04-EFE727E2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2AAC-EE1A-478E-817C-4328862D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CC909-09C5-426B-AD50-0061CD32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47F6-E0A5-4053-BCD2-5D142601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F09E1-E3EC-45A4-8651-EE29BEAC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80593-3681-4781-89F5-7DCB9741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100D-1001-4F47-8960-497F19E5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9791-22C9-409A-ACC2-6CA565CC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315-641D-4AD4-8BD1-4DE40175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D4930-7D34-4E77-9AF7-0C8C4DD3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AEDAE-EEF0-4754-A2F1-D4089AE6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9A3AD-F772-4849-BEF4-BA4D13EA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FE8C-07A7-4FE0-BBAD-E471F2D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2EA9-CC06-4F11-ABC7-B3460270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10D26-D9C7-4BF4-BC0C-D73DE6F7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996C-FBF1-4683-8D5F-B9D13C03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4F2A-AA2F-4AF1-A7A5-37FB4746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96955-4ADD-429C-9FCB-75CE5E5B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C99-F71B-4561-A134-469F5F2A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669-BE2D-45D1-A4D6-866AAFD8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E34-BAED-448A-BA4D-BF988DAE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53A-0A0A-4D3F-9BAD-5239A21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097-1603-4EC2-9983-A557309A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20D9-266F-480E-B631-D6CA0530E10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7DA3-294F-4D18-B6AF-6ACEB17CEFE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4777-9B23-4220-BC20-46C0237534A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4DD5-23D3-4876-BD44-1AF1D2B12AC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7iAVCLZWu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9640" y="2491920"/>
            <a:ext cx="7855200" cy="2629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000000"/>
                </a:solidFill>
                <a:latin typeface="Arial"/>
                <a:ea typeface="Arial"/>
              </a:rPr>
              <a:t>Ћелијска деоба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Arial"/>
                <a:ea typeface="Arial"/>
              </a:rPr>
              <a:t>МИТОЗА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Ћелијски циклу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5" descr="cell%20cycle"/>
          <p:cNvPicPr/>
          <p:nvPr/>
        </p:nvPicPr>
        <p:blipFill>
          <a:blip r:embed="rId1"/>
          <a:stretch/>
        </p:blipFill>
        <p:spPr>
          <a:xfrm>
            <a:off x="1238400" y="1371600"/>
            <a:ext cx="64576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Мито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елијска деоба којом се деле телесне ћелије вишећелијских организама, регенеришу ткива и зарастају ра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бухвата деобу једра (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  <a:ea typeface="Arial"/>
              </a:rPr>
              <a:t>кариокинеза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) и деобу цитоплазме (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  <a:ea typeface="Arial"/>
              </a:rPr>
              <a:t>цитокинеза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562360" y="476280"/>
            <a:ext cx="243828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1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ф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ф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аф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ф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18" descr="mitoza biljne celije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4" descr="OnionMitosisLabeled"/>
          <p:cNvPicPr/>
          <p:nvPr/>
        </p:nvPicPr>
        <p:blipFill>
          <a:blip r:embed="rId1"/>
          <a:stretch/>
        </p:blipFill>
        <p:spPr>
          <a:xfrm>
            <a:off x="838080" y="304920"/>
            <a:ext cx="7696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Митоза анималне ћелиј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Ascaris megalocephala 2n=4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4" descr="mitosis%20x440%20(a)metaphase%20and%20(b)telophase"/>
          <p:cNvPicPr/>
          <p:nvPr/>
        </p:nvPicPr>
        <p:blipFill>
          <a:blip r:embed="rId1"/>
          <a:stretch/>
        </p:blipFill>
        <p:spPr>
          <a:xfrm>
            <a:off x="1066680" y="182880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9152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Разлике између митозе биљне и анималн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ћел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360" y="2349360"/>
            <a:ext cx="822960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љне ћелије су правоугаоног облика, док су анималне округл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љне ћелије немају центриоле, а животињске ћелије имају центрио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од биљних ћелија деобна бразда иде од средине и шири се ка крајевима ћел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од анималних ћелија деобна бразда иде од крајева ка средини ћел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2276640"/>
            <a:ext cx="8229600" cy="1133280"/>
          </a:xfrm>
          <a:prstGeom prst="rect">
            <a:avLst/>
          </a:prstGeom>
          <a:solidFill>
            <a:srgbClr val="21b2c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g7iAVCLZW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908000" y="692280"/>
            <a:ext cx="504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нимација митоз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7:51:22Z</dcterms:created>
  <dc:creator>User</dc:creator>
  <dc:description/>
  <dc:language>en-US</dc:language>
  <cp:lastModifiedBy>Microsoft Office User</cp:lastModifiedBy>
  <dcterms:modified xsi:type="dcterms:W3CDTF">2021-01-25T18:00:29Z</dcterms:modified>
  <cp:revision>53</cp:revision>
  <dc:subject/>
  <dc:title>Reprodukcija ćelija</dc:title>
</cp:coreProperties>
</file>